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C402-59FC-4C05-87B1-8D0D64FF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61FF-7EAB-4BCC-8BF6-FE75E3FB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607D-5EE2-4833-90EF-898375AE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50D8-EF36-426C-91EF-71E478BD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A0CF-0ED4-4F58-85BE-D4718C56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ED30-FDBE-4CFA-A3BF-C00C6A05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BB1E-FA43-4702-8B04-52E7A3CA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F9AD-311E-4568-9C31-4DF2AB5A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4DF4-2FB3-4D1A-A620-C18D6AA3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0F73-68F2-454B-93E4-05406A4C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795C-096B-4F8C-855C-26C7A065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AC71-2CA1-4460-9902-1A4AD368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959D-CEB2-4CA0-B2BF-8AFB42B0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4494-A9CE-4287-A029-BFB98CA1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30B5-8344-4E7B-8036-823F4A4D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8E1F-BAC2-47E9-A5C3-3BA38A19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849A-AA8D-43D8-BA00-C82C7D63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F5823-A116-4CD4-8FF4-133C4AA4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BFAD-E943-4D4B-97A5-3ED80C8F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57C9-22EC-4DD6-ABC0-B8C9DCAA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B258-93A4-4698-87CC-69D227A6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4161-B29F-4956-AFCE-0F0167B1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4C7A-5F9A-4CE9-B27E-51C264B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16A6-53F5-413A-9CDD-A537D42A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EBBF-F522-4954-B433-8769558FB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8600-54AC-43E4-A855-B1931EC4F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PERL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programavim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71640" y="4266720"/>
            <a:ext cx="622008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ketai, bibliotekos, modulia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O programavimas PERL’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GI programavim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agma-bibliotek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ragma-bibliotek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 moduliai, skirti kompiliavimo proceso valdymu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aip 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t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moduliai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gma-biblioteko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jung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direktyvos 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use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pagalb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jung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naudojama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irekty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Jos sintak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ė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no Module [LI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gma-bibliotek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ų pavyzdžia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se inte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se stri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se li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se sigtr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se su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s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saulinė PERL modulių biblioteka vadinama 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CPAN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mprehensive 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RL 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chive 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twork), kurią galima rasti  adre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www.perl.com/CPAN/modu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ktiškai orientuotas programavimas PERL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programavimo sampratos esmė – klasės ir objekt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rindinės klasių savybė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eldimu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morfiz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apsuli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’o definicij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ė – tai paket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ktas – tai nuoro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odas – tai paprogram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to PERL’e nėra ir specialios sintaksės klasių aprašym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lasės ir objekt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7d"/>
                </a:solidFill>
                <a:latin typeface="Arial"/>
              </a:rPr>
              <a:t>Klasė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bėžiama kaip paketas, todėl ji tu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zoliuotą vardų erdvę ir simbolių lentel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intamasis gaunamas naudojan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tak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ę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$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Klase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::var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onstruktoriaus,destruktoriaus ir metodų funkcijas atlieka paprogramė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7d"/>
                </a:solidFill>
                <a:latin typeface="Arial"/>
              </a:rPr>
              <a:t>Objek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pibėžiama kaip nuoroda, kuri surišta su tam tikra klase. Įprastinė nuoroda tampa objektu panaudojus funkci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bles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uoroda_į_objektą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klasės_pavadinima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Šios funkcijos esmė surišti nuorodą su klase. Įvykdžius šią funkciją keičiasi nuorodos tipas į 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klasės_pavadinima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tip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lasės ir objekt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new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$obref = {}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f to empty ha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 $obref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make it an object in this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$obref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tur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ordina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a = {}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generate reference to ha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b = $a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ference assignment (shallow) bless $b, Mountain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make an object in this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 $a, Fourteener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make an object in this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\$b is a ", ref($b), "\n"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onstruktoriu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7d"/>
                </a:solidFill>
                <a:latin typeface="Arial"/>
              </a:rPr>
              <a:t>Konstruktori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 paprogramė, sukurianti objektą ir grąžinanti nuorodą. Dažniausiai konstruktoriaus pavadinimas </a:t>
            </a: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new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. Pavyzdži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ckage MyCla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b new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hi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$self = {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 $self, $cla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$self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3747960"/>
            <a:ext cx="396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b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w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my ($klase, $par1, $par2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_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eturn bless {}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lasių metod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50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klausomai nuo to, kaip metodas traktuoja pirmajį sąrašo argumentą, metodai skirstomi 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k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Klasių metoda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dar vadinami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statiniais metodai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– tai paprogramė, kurios pirmas argumentas turi būti objekto arba paketo pavadinimas. Tipinis pavyzdys – konstruktoriu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find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($class, $nickname) = @_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$obj_table {$nickname}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jektų metod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507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Objektų metoda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dar vadinami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virtualiais metodai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– tai paprogramė, kurios pirmas argumentas turi būti nuoroda į objektą. Paprastai šie metodai naudojami inkapsuliuotų duomenų išvedimui arba keitimui. Pavyzdžiu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displa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$self = shif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@key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@_ == 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@keys = sort keys(%$self)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{ @keys = @_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ach $key (@key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print "\t$key =&gt; $self-&gt;{$key}\n"; }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todų iškvietim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ų iškvietimui naudojamos dvi sintaksės for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_OR_OBJECT,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_OR_OBJECT-&gt;method( list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fred = find Critter "Fred"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$fred 'Height', 'Weight'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a kitas sintaksės varian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fred = Critter-&gt;find("Fred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fred-&gt;display('Height', 'Weight'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truktoriu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Objektas automatiškai naikinamas, kai dingsta nuoroda į atitinkamą klasę. Tai įvyksta programai baigus darb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artotojas gali pats sukurti destruktorių kaip vieną iš klasės metod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estruktoriaus metodo pavadinimas: </a:t>
            </a:r>
            <a:r>
              <a:rPr b="0" lang="lt-LT" sz="2200" spc="-1" strike="noStrike">
                <a:solidFill>
                  <a:srgbClr val="00007d"/>
                </a:solidFill>
                <a:latin typeface="Arial"/>
              </a:rPr>
              <a:t>DESTRO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estruktorius naikina tik savo klasės objektą ir automatiškai neiškviečia kitų destruktorių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b DESTRO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el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shi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elf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::DESTROY;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vie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ma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azinės klasė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destruk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“Objektas panaikintas… \n”;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GI programavimas ir PER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G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mon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eway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erface) – tai web serverio dalis, galinti saveikauti su kitomis aplikacijomis veikian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is tame  serveryje. </a:t>
            </a:r>
            <a:r>
              <a:rPr b="1" lang="lt-LT" sz="2200" spc="-1" strike="noStrike">
                <a:solidFill>
                  <a:srgbClr val="000000"/>
                </a:solidFill>
                <a:latin typeface="Arial"/>
              </a:rPr>
              <a:t>CGI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tai lyg vartai, kliento duomenų perdavimui, programoms apdoro-jančioms tuos duomenis, dažniausiai tai DBV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200" spc="-1" strike="noStrike">
                <a:solidFill>
                  <a:srgbClr val="000000"/>
                </a:solidFill>
                <a:latin typeface="Arial"/>
              </a:rPr>
              <a:t>CGI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 darbo schema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1. Duomenų gavimas iš kliento HTML form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2. Duomenų paėmimas iš HTML formos ir jų apdoroji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CGI-skripto pagalba arba perdavimas kitoms aplikacijo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3. HTML dokumento formavimas ir išsiuntimas klientu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200" spc="-1" strike="noStrike">
                <a:solidFill>
                  <a:srgbClr val="000000"/>
                </a:solidFill>
                <a:latin typeface="Arial"/>
              </a:rPr>
              <a:t>CGI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programoms dažniausiai naudojamas PERL, kuris dirba interpretatoriaus rėžime, todėl CGI programos vadinam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CGI-skriptais.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ket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aket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ai b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kurti izoliuotą vardų erdvę (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 programoje. Kiekvienas programinio kodo fragmentas priklauso kazkokiam paketu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intaks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package NAMESP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ardų erdvės galiojimo ribos panašios kaip ir lokalių kintamųjų, sukurtų </a:t>
            </a: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my(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rba </a:t>
            </a: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local(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f-jų pagalba ir baigiasi tuomet, k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pibrėžiama nauja vardų erdvė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baigiasi paprogramė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baigiasi operatorių blokas {}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baigiasi fail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baigiasi eilutės, perduotos funkcijai eval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liento užklausa web serveriu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jos apsikeitimas tarp web serverio ir kliento vyksta užklausų pagalba. Jos forma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etodas  Dokumentas  Protokolas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Parametras_1 : </a:t>
            </a: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reikšmė_1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Parametras_N :</a:t>
            </a: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 reikšmė_N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Duomen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vyzdži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/cgi-bin/register.cgi  HTTP/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: www.vtu.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John&amp;surname=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http://www.vtu.lt/cgi-bin/result.cgi?student=Jonas&amp;mark=9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-Modified-Since: Sat, 3 May 2003 16:42:00 MET D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565360"/>
            <a:ext cx="144360" cy="36036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2997360"/>
            <a:ext cx="144360" cy="792000"/>
          </a:xfrm>
          <a:custGeom>
            <a:avLst/>
            <a:gdLst>
              <a:gd name="textAreaLeft" fmla="*/ 0 w 144360"/>
              <a:gd name="textAreaRight" fmla="*/ 5220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3860640"/>
            <a:ext cx="144360" cy="289080"/>
          </a:xfrm>
          <a:custGeom>
            <a:avLst/>
            <a:gdLst>
              <a:gd name="textAreaLeft" fmla="*/ 0 w 144360"/>
              <a:gd name="textAreaRight" fmla="*/ 52200 w 144360"/>
              <a:gd name="textAreaTop" fmla="*/ 7200 h 289080"/>
              <a:gd name="textAreaBottom" fmla="*/ 2818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56360" y="2492280"/>
            <a:ext cx="27367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ma dalis (meto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ra dalis (parametr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čia dalis (duomen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rindiniai užklausos parametra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io_var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dentifikuojamas web serveris (gali būti virtualu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ation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žkoduotas vardas ir slaptažo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audojamas perduodant vartotojo vardą ir slaptažodį, jei tokie reikaling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-Type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usako, kokio tipo duomenys perduoda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-Encoding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duot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nurodomas kodavimo tip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-Length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kumento_dy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erduodamo dokumento dydis. Būtinas parametras POST tipo užklauso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-Modified-Since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ik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audojamas GET tipo užklausose norint išvengi pakartotino dokumento siunti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r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kument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okumentas, kuriame buvo nuoroda į šį dokument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-Agent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liento_programinės_įrangos_pavadinim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uomenų perdavimo metod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- toks perdavimo metodas, kai duomenys perduodami URL užklausos antraštėje, po “?” simbolio. Kintamieji atskiriami 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amp;”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imboli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339966"/>
                </a:solidFill>
                <a:latin typeface="Arial"/>
              </a:rPr>
              <a:t>Duomenų formatas </a:t>
            </a:r>
            <a:r>
              <a:rPr b="0" i="1" lang="lt-LT" sz="2200" spc="-1" strike="noStrike">
                <a:solidFill>
                  <a:srgbClr val="339966"/>
                </a:solidFill>
                <a:latin typeface="Arial"/>
              </a:rPr>
              <a:t>kintamasis</a:t>
            </a:r>
            <a:r>
              <a:rPr b="0" i="1" lang="en-US" sz="2200" spc="-1" strike="noStrike">
                <a:solidFill>
                  <a:srgbClr val="339966"/>
                </a:solidFill>
                <a:latin typeface="Arial"/>
              </a:rPr>
              <a:t>=</a:t>
            </a:r>
            <a:r>
              <a:rPr b="0" i="1" lang="lt-LT" sz="2200" spc="-1" strike="noStrike">
                <a:solidFill>
                  <a:srgbClr val="339966"/>
                </a:solidFill>
                <a:latin typeface="Arial"/>
              </a:rPr>
              <a:t>reikšm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rveris, išskyręs duomenis iš URL užklausos atraštės, juos priskiria kintamajam QUERY_STRING, kuris PERL’ui pasiekiamas per asociatyvinį masyv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EN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99"/>
                </a:solidFill>
                <a:latin typeface="Arial"/>
              </a:rPr>
              <a:t>GET /cgi-bin/cgi-program.pl</a:t>
            </a: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?name=John&amp;surname=Smith  HTTP/1.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1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oks perdavimo metodas, kai duomenys perduodami pačios užklausos turinyje. Web serveris duomenis CGI programai perduoda per standartinį įėjimo stautą STD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duodamų duomenų kodav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int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ugoti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duomenis nuo perdavimo klaidų, jie yra koduojami. Duomenų kodavimui naudojamas MIME (Multipurpose Internet  Mail Extensions) standartas, apibrėžian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is duomenų perdavimo taisykles (tipus) skirtingiems failų tipams. MIME tipas apibrėžiamas nuroda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i="1" lang="lt-LT" sz="22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i="1" lang="lt-LT" sz="2200" spc="-1" strike="noStrike">
                <a:solidFill>
                  <a:srgbClr val="339966"/>
                </a:solidFill>
                <a:latin typeface="Arial"/>
              </a:rPr>
              <a:t>tipas/potipis (type/subtyp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ipas – text, image,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otipis – test/html, text/plain, image/gif, application/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HTML formose naudojami du MIME tipa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application/x-www-form-urlencoded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(naudojama pagal nutylėjim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application/form-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TML form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TML formų paskirtis persiųsti nutolusio kliento duomenis web serveriui. Ji atitinka užklausos formatą. Formas palaiko prak-tiškai visos web naršykl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99"/>
                </a:solidFill>
                <a:latin typeface="Arial"/>
              </a:rPr>
              <a:t>Tag’o &lt;FORM&gt; sintaksė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9966"/>
                </a:solidFill>
                <a:latin typeface="Arial"/>
              </a:rPr>
              <a:t>&lt;</a:t>
            </a:r>
            <a:r>
              <a:rPr b="0" lang="lt-LT" sz="2000" spc="-1" strike="noStrike">
                <a:solidFill>
                  <a:srgbClr val="339966"/>
                </a:solidFill>
                <a:latin typeface="Arial"/>
              </a:rPr>
              <a:t>FORM  ACTION=”URL” METHOD=perd_metodas ENCTYPE=MIME-tipa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339966"/>
                </a:solidFill>
                <a:latin typeface="Arial"/>
              </a:rPr>
              <a:t>Formos turin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339966"/>
                </a:solidFill>
                <a:latin typeface="Arial"/>
              </a:rPr>
              <a:t>…</a:t>
            </a:r>
            <a:r>
              <a:rPr b="0" lang="lt-LT" sz="2000" spc="-1" strike="noStrike">
                <a:solidFill>
                  <a:srgbClr val="3399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339966"/>
                </a:solidFill>
                <a:latin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Paaiškinimai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- CGI programos adresas (būtinas parametra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- formos duomenų persiuntimo metodas (GET arb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OS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ENCTYPE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- perduodamų duomenų kodavimo format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grindiniai formų tag’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&lt;INPUT  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ko_tipas NAME=lauko_pavadinimas  kiti_atributa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&g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TEXT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laukas teksto 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į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vedim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PASSWORD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laukas teksto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 (matomo kaip “*”)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į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vedim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FILE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- laukas failo “prikabinimui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HECKBOX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- elementas perjungiklis (true/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ADIO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- grupinio pasirinkimo elem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UBMIT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- perdavimo mygtu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ESET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- “atšaukimo” mygtu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MAGE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- analogiškas SUBMIT su grafiniu logoti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HIDDEN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7d"/>
                </a:solidFill>
                <a:latin typeface="Arial"/>
              </a:rPr>
              <a:t>- paslėptas elem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ELECT NAME=lauko_pavadinimas SIZE=n MULTIP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i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580536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keičia CHECKBOX ir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718800">
            <a:off x="5724360" y="6021360"/>
            <a:ext cx="1047960" cy="216000"/>
          </a:xfrm>
          <a:prstGeom prst="leftArrow">
            <a:avLst>
              <a:gd name="adj1" fmla="val 50000"/>
              <a:gd name="adj2" fmla="val 1212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GI progra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I programos paskirtis – panaudojus užklausos duomenis sukurti (panaudoti jau esamą) HTML dokumentą ir perduoti jį klientui. Atsakymas iš serverio turi sekantį format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tokolas  Būsenos kodas  Apraš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Parametras_1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reikšmė_1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Parametras_N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reikšmė_N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uomen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vyzd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1 404 File Not Fou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te: Mon, 26 Jul 1999 18:32:25 GM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: Apache/1.3.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ent-Type: text/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ML&gt;&lt;HEAD&gt; &lt;TITLE&gt;404 File Not Found&lt;/TITLE&gt;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 &lt;H1&gt;File Not Found&lt;/H1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quested URL was not found on this server.&lt;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&lt;/HTML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2781360"/>
            <a:ext cx="71280" cy="360360"/>
          </a:xfrm>
          <a:custGeom>
            <a:avLst/>
            <a:gdLst>
              <a:gd name="textAreaLeft" fmla="*/ 0 w 71280"/>
              <a:gd name="textAreaRight" fmla="*/ 25560 w 71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92720" y="3139920"/>
            <a:ext cx="71280" cy="793800"/>
          </a:xfrm>
          <a:custGeom>
            <a:avLst/>
            <a:gdLst>
              <a:gd name="textAreaLeft" fmla="*/ 0 w 71280"/>
              <a:gd name="textAreaRight" fmla="*/ 25560 w 71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92720" y="4005360"/>
            <a:ext cx="71280" cy="360360"/>
          </a:xfrm>
          <a:custGeom>
            <a:avLst/>
            <a:gdLst>
              <a:gd name="textAreaLeft" fmla="*/ 0 w 71280"/>
              <a:gd name="textAreaRight" fmla="*/ 25560 w 71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787480"/>
            <a:ext cx="31687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ūsenos eilut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rašt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dokumentas - CGI skripto rezult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RL’o  CGI skript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358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!/usr/bin/pe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Content-type: text/html \n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&lt;html&gt;&lt;head&gt;&lt;title&gt;HELLO&lt;/title&gt;&lt;/head&gt;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&lt;body&gt;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&lt;h2&gt; Pirmasis PERL CGI skriptas!!!!&lt;/h2&gt;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&lt;/body&gt;&lt;/html&gt;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ip matome CGI skriptas formuoja web serverio atsakymą. Būtinas atsakymo antraštės parametr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ntent-type: text/html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a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Content-type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a, kurioje turi būti patalpintas CGI skripto failas yra nurodoma web serverio konfigūracijoje. Paprastai cgi-bin/ katalo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GI aplinkos kintamie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3328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I programoms be kliento atsiųstų duomenų prieinami kita ir  informa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erio duomeny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žklausos antraštės duomen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etas aplinkos kintamųj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TE_ADD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IP adresas, iš kur atėjo užklau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TE_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Kompiuterio vardas, iš kur atėjo užklau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TE_US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Jei imdamas šį puslapį vartotojas pateikė prisijungimo vardą ir slaptažodį, ir ji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uvo priimtini serveriui, šiame kintamajame bus pateiktas vartotojo vard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_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Autentikavimosi būd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TE_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Portas, per kurį naudojo klientas jungdamasis prie www serveri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T_FILE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pilnas kelias iki vykdomo skripto (failinėje sistemoje).  Pvz.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home/adm/public_html/test.cg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T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kelias www serveryje iki vykdomo skripto. Pvz.: /~kaspar/test.cg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_ADM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_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_PROTOC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_SOFTWA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_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Serverio vardas, kuris buvo naudojamas kreipiantis į šį web server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GI.pm modul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7d"/>
                </a:solidFill>
                <a:latin typeface="Arial"/>
              </a:rPr>
              <a:t>CGI.p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PERL’o modulis, skirtas CGI skriptų rašymui, nuo v.5.004 įeinantis į programos distribucinį komplektą. Modulio autorius - L.Sht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7d"/>
                </a:solidFill>
                <a:latin typeface="Arial"/>
              </a:rPr>
              <a:t>CGI.p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uri didelį rinkinį funkcijų, skirtų HTML 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oms kurti ir apdoroti. Naudojant CGI.pm paprogrames, HTML dokumentas formuojamas skripto vykdymo m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7d"/>
                </a:solidFill>
                <a:latin typeface="Arial"/>
              </a:rPr>
              <a:t>CGI.p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modulis gali būti naudojamas struktūriniame ir objektiniame lygmeny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.y.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gra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sančios modulyje pasiekiamos kaip CGI objekto metodai arba kaip įprastinės funkc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ket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Pagal nutylėjimą, pagrindinė programa siejama su paketu </a:t>
            </a:r>
            <a:r>
              <a:rPr b="0" i="1" lang="lt-LT" sz="2300" spc="-1" strike="noStrike">
                <a:solidFill>
                  <a:srgbClr val="00007d"/>
                </a:solidFill>
                <a:latin typeface="Arial"/>
              </a:rPr>
              <a:t>ma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ntamasis iš kito paketo pasiekiamas taip: 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$PackageName::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amo paketo pavadinimas saugomas:  _PACKAGE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vyzd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! usr/bin/perl -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x=_PACKAGE_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“package $x \n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 ‘package two’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“\$main::x = $main::x \n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GI.pm modul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uktūriniame lygmenyje modulis importuojamas į programos vardų erdvę, o funkcijos naudojamos įprastu būdu. Pv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! /usr/bin/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GI qw/:standard/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header(), start_html(“HTML forma”), h1(“HTML forma”), …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bjektiniame lygmenyje CGI.pm modulio resursai  pasiekiamei per CGI klasės objektą, sukuriamą konstruktoriaus new() pagalba. Pv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! /usr/bin/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G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query = new CG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$query-&gt;hea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query-&gt;start_html(“HTML forma”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query-&gt;h1(“HTML forma”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query-&gt;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htm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boli</a:t>
            </a:r>
            <a:r>
              <a:rPr b="0" lang="lt-LT" sz="42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lentel</a:t>
            </a:r>
            <a:r>
              <a:rPr b="0" lang="lt-LT" sz="4200" spc="-1" strike="noStrike">
                <a:solidFill>
                  <a:srgbClr val="000000"/>
                </a:solidFill>
                <a:latin typeface="Arial"/>
              </a:rPr>
              <a:t>ė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ekvienas paketas susijęs su </a:t>
            </a: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simbolių lente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Tai asociatyvinis masyvas, sudarytas iš pakete deklaruotų kintamųjų (raktai), o jų reikšmės –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glo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tipo reikšmės, kurios nurodo į atitinkamus vidinių kintamųjų lizd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os pagrindiniame pake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augomi tokie identifikatoriai kaip STDIN, STDOUT, STDERR, ARG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%main: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pagrindinės simbolių lentelės asociatyvinio masyvo pavadini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ach $symname (sort keys %main::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local *sym = $main::{$symname}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\$$symname is defined\n" if defined $sy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\@$symname is defined\n" if defined @sy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\%$symname is defined\n" if defined %sy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utomatinis užkrovim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5075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ei programos vykdymo metu, kreipiamasi į neegzistuojančią funkciją, galima vietoj sisteminio pranešimo apie klaidą, paleisti savo paprogramę pavadin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UTOLA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Funkcijos pavadinimas priskiriamas kintamajam: 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$</a:t>
            </a:r>
            <a:r>
              <a:rPr b="0" lang="lt-LT" sz="2300" spc="-1" strike="noStrike">
                <a:solidFill>
                  <a:srgbClr val="00007d"/>
                </a:solidFill>
                <a:latin typeface="Arial"/>
              </a:rPr>
              <a:t>AUTO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yzd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b AUTOLO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 my $program = $AUTOLOA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program =~ s/.*:://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trim package name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ystem($program, @_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iblioteko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udingos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gra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prastai saugomi atskiruose failuose, vadinamuose bibliotekomis arba modul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Biblioteka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 paketas, kurio galiojimo ribos yra failas. Failo pavadinimas paprastai turi plėtinį </a:t>
            </a:r>
            <a:r>
              <a:rPr b="0" lang="lt-LT" sz="24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p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o jo pirma eilut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lt-LT" sz="2400" spc="-1" strike="noStrike">
                <a:solidFill>
                  <a:srgbClr val="00007d"/>
                </a:solidFill>
                <a:latin typeface="Book Antiqua"/>
              </a:rPr>
              <a:t>package pakage_name</a:t>
            </a:r>
            <a:r>
              <a:rPr b="0" lang="lt-LT" sz="24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grindinėje programoje biblioteka iškviečiama direkty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7d"/>
                </a:solidFill>
                <a:latin typeface="Book Antiqua"/>
              </a:rPr>
              <a:t>require [Expressio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ei direktyva neturi parametro, naudojamas kintamasis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$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i parametras ska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čius, jis reiškia PERL versij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ibliotek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ibliotekos susiję su su vidiniais masyv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@IN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katalog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ų vardų masyvas, kuriuose ieškoma bibliotek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%INC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– failų (bibliotekų) vardų ir jų kelių asoc.masy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Pavyzdy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iblioteka /home/dgtm/mylib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NumOfArgs { return $#_ +1; }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! /usr/bin/pe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hift (@INC, “/ /home/dgtm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“mylib.pl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“Argumentu skaicius=“, NumOfArgs(1,2,3), “\n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duli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6407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Modul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tai paprogrami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ų biblioteka,leidžianti nurodyti kokie duomenys eksportuojami ir jais leidžiama naudotis kitoje vardų erdvėje. Modulio failo pavadinimas turi išplėtimą .p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@EX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yvas, kuriame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nurody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ksportuojam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ų pagal nutylėjimą kintamųjų varda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@EXPORT</a:t>
            </a:r>
            <a:r>
              <a:rPr b="0" lang="lt-LT" sz="2200" spc="-1" strike="noStrike">
                <a:solidFill>
                  <a:srgbClr val="00007d"/>
                </a:solidFill>
                <a:latin typeface="Arial"/>
              </a:rPr>
              <a:t>_O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yva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, kuriame nurodyti kintamųjų vardai, kurie bus eksportuoti tik jei to reikalauja importuojanti progra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odulis iškviečiamas direktyv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7d"/>
                </a:solidFill>
                <a:latin typeface="Arial"/>
              </a:rPr>
              <a:t>use Module [LIST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7d"/>
                </a:solidFill>
                <a:latin typeface="Arial"/>
              </a:rPr>
              <a:t>use VERS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duliai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vyzdy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3920" y="2052720"/>
            <a:ext cx="7210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ckage MyModu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quire Expor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ISA = qw(Export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EXPORT = qw (My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EXPORT_OK=qw($MyArgs @MyArgs % My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MyArg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($x, $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MyArgs = @_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yArgs = $#MyArgs 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ach $x (@MyAr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$MyArgs{$x} = ++$i;}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yMo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w (:DEFAULT $MyArgs @MyArgs % My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Args one, two, thre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51:36Z</dcterms:created>
  <dc:creator>Dalius</dc:creator>
  <dc:description/>
  <dc:language>en-US</dc:language>
  <cp:lastModifiedBy>Dalius</cp:lastModifiedBy>
  <dcterms:modified xsi:type="dcterms:W3CDTF">2003-05-07T09:18:02Z</dcterms:modified>
  <cp:revision>91</cp:revision>
  <dc:subject/>
  <dc:title>PERL programavimas</dc:title>
</cp:coreProperties>
</file>