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58C7-54A0-4843-8A11-31E0D68F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1E85-E179-4DFA-A253-58511F9A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B058-7BC4-4016-A64F-621177E2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8638-DC1F-402D-912B-9875FD19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0CB8-3715-48A2-B5F1-75F4D4F3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1D47-8EA4-4497-A55B-51F006EC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B66D-C94D-418E-9F7A-BC87BEE9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0F42-228F-46DD-A14D-6B83D835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4ABB-CE69-4324-8FEA-7F305DAC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A919-1105-428C-B27A-2B61D20E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A706-44D6-4D90-B71F-5A88558C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0865-0A75-4B3D-9A0D-42E3D9AC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2928-37BA-49EB-B4B2-748ADC5F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B268-3146-42BD-B31E-84D80480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FBCC-0E28-4248-9579-A4BDF333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8677-062A-41CE-BA2A-B68E0A31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966A-24B2-401C-8CAF-AB5A9FF2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3421-1311-49A1-BDCA-807128F7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556E-9E48-4735-ABDF-A0867582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903C-0AC7-4A89-BD9F-34A2AADE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35E6-2F70-4726-ABB5-B896D375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2052-881C-4964-A6B0-79E135B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5055-9E14-4415-95E2-1AE691EA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4522-FFE2-44AC-9B3A-2C2764DB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3A30-E753-4A3A-AF04-BDC572B46C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453D-AC3A-4A3A-A19D-182975804D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PERL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programavim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71640" y="4266720"/>
            <a:ext cx="622008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Failų ir 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alog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 tvarky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ocesų administravi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steminė duomenų baz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oro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cesų paleidim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7d"/>
                </a:solidFill>
                <a:latin typeface="Arial"/>
              </a:rPr>
              <a:t>system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(“komanda”) – grąžina 0, jei komanda įvykdo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ėkminga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omanda, paleidžiama kaip naujas procesas-vaikas, kur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aveldi visus motininio proceso atributus, tame tarp 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TDIN, STDOUT,STDER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oceso kintamieji saugomi asoc.masyv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EN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Masy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ria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foreach $key (sort keys %EN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{ print "$key=$ENV{$key}\n"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as paleid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ama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ir kitu būdu t.y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Naudojant ` `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foreach $_ (`who`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{($who,$where,$when) = /(\S+)\s+(\S+)\s+(.*)/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int "$who on $where at $when\n"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cesų paleidim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as komandų paleidimo bū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op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ile_handle, “command |”) – komanda paleidžiama skaitymu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op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ile_handle, “| command”) – komanda paleidžiama rašymu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(WHOPROC, "who |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whosaid = &lt;WHOPROC&gt;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(WHO,"who|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(LPR,"| lpr -Pslatewriter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&lt;WHO&gt;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unless (/fred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print LPR $_; }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WH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LPR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steminiai kreipiniai (system cal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Įvykdyti komandą, galima pasinaudojus sisteminiais kreipiniais: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fork, exec, wait, waitpid, ex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Jie liedžia tiesiogiai dirbti ir manipuliuoti su proces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$child_pid = fork(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die "cannot fork: $!"; }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if ($child_pid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rint  “I'm the parent”; }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{ print “I'm the child”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22920" y="3141720"/>
            <a:ext cx="432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$kidpid = fork(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die "cannot fork: $!"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if ($kidpid == 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exec("date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"can't exec date: $!"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{ waitpid($kidpid, 0)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gnal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ERL leidžia naudotis siganlais, kaip procesų komunikavi- mo priemone. Signalas – tai tam tikras skaičius, kurio reikšmė priklauso nuo įvykio ir siunčiami iš vieno proceso kit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oc.masy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I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gomi visi signalai ir j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ik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artotojui naudinga f-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kil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signal_value, PID) – siunčia signalą procesu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tos naudingos funkcij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7d"/>
                </a:solidFill>
                <a:latin typeface="Arial"/>
              </a:rPr>
              <a:t>index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$string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$substring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$skip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) – ieško eilutės 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substring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eilutėje 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š kairės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aleisdamas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 skip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imbolių iš kairė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r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ąžina pozicijos numer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where = index("hello","e"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$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gu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which = index("a very long string","long"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$whi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gu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which = index("a very long string","lame"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$whi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gu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where = index("hello world","l",3)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now returns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7d"/>
                </a:solidFill>
                <a:latin typeface="Arial"/>
              </a:rPr>
              <a:t>rindex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$string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$substring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$skip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) – ieško eilutės 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substring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eilutėje 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š dešinės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aleisdamas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 skip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imbolių iš kairė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r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ąžina pozicijos numer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w = rindex("hello world","he")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$w lygu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w = rindex("hello world","l")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$w lygu 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w = rindex("hello world","o",6)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$w lygu 4 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tos naudingos funkcij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507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subst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$string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$star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$length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 – iš eilutės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“ištraukia” jos dal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grab = substr(“hello”, 3, 2)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$grab lygu "lo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stuff = substr("a very long string",-3,1)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$stuff lygu "i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hw = "hello world!"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bstr($hw, 0, 5) = "hi"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$hw lygu "hi world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sprintf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format, list ) – funkcija, grąžinanti formatuotą eilut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result = sprintf("X%05d",$y); 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orma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reiškiam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m.n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width = 20; $value = sin 1.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foreach $precision (0..($width-2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{ $output_arr[$precision] = sprintf "%${width}.${precision}f",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value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tos naudingos funkcij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t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old_string /new_string/ - keičia eilutės dalis pagal šabloną (simbolių transiliacijos operatoriu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_ = "fred and barney"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/fb/bf/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$_ is now "bred and farney" tr/abcde/ABCDE/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$_ is now "BrED AnD fArnEy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/a-z/A-Z/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$_ is now "BRED AND FARNEY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cijos 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d, c,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/a-z/ABCDE/d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$_ is now "ED AD BA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/a-z/_/c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$_ is now "fred_and_barne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/a-z/X/s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$_ is now "X X X, X X X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/etc/passw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:passwd:uid:gid:comments:home_dir:sh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getpw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– nuskaito passwd eilut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getpwu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id) –  skaliariniame kontekste gražina prisijungimo vardą. Vektoriniame – visą passwd failo eilut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getpwna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login”) - skaliariniame kontekste gražina prisijungimo uid. Vektoriniame – visą passwd failo eilut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idnum = getpwuid("daemo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login = getpwnam(25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$fred_home) = (getpwnam ("fred"))[7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/etc/passw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pwent(); # initialize the s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@list = getpwent(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# fetch the next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$login,$home) = @list[0,7]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grab login name and 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home{$login} = $home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save it a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pwent(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all 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keys = sort { $home{$a} cmp $home{$b} } keys %hom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ach $login (@ke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# step through the sorted n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"home of $login is $home{$login}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nklo sąsajos inform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gethostbyname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“host_name”) - skaliariniame kontekste gražina hostname. Vektoriniame – masyvą, kurį suda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$name, $aliases, $addrtype, $length, @add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anoninis var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ali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iti vard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addr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odas, nurodantis, kokio tipo ad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dre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č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@addrs – adresas, kodu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$addr) = (gethostbyname("slate.bedrock.com"))[4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int "Slate's address is ", join(".",unpack("C4", $addr)), "\n"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atalog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868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Nori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L programoje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akeisti katalogą, naudojamas operatoriu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t-LT" sz="2200" spc="-1" strike="noStrike">
                <a:solidFill>
                  <a:srgbClr val="00007d"/>
                </a:solidFill>
                <a:latin typeface="Arial"/>
              </a:rPr>
              <a:t>chdir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(“katalogo pavadinimas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Gražinama reikšmė - true arba false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hdi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be parametrų, keičia katalogą 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artotojo ho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atalog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</a:rPr>
              <a:t>print "where do you want to go? 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</a:rPr>
              <a:t>chomp($where = &lt;STDIN&gt;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</a:rPr>
              <a:t>if (chdir $wher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</a:rPr>
              <a:t># we got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</a:rPr>
              <a:t># we didn't get ther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inių kodų konvertav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uri pagalbines komandas (transliatorius), kurios leidžia konvertuoti awk ir sed programinius kodus į PE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2p  - awk to per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p -  sed to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2p myawkprog myperlp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p myawkprog myperlpr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uorodos (references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uorodų naudojimo ti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s – sudayti daugiamačius masyvus ir duomenų struktū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’e nuoroda laikomas skaliarinis dydis, kuriame saugomas kintamojo adre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orodos tipas priklauso nuo kintamojo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ur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oma nuoroda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i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ERL naudojamos dviejų tipų nuoro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7d"/>
                </a:solidFill>
                <a:latin typeface="Arial"/>
              </a:rPr>
              <a:t>Hard reference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– tai nuoroda į duomenų sritį, kuriai suteiktas kintamojo var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7d"/>
                </a:solidFill>
                <a:latin typeface="Arial"/>
              </a:rPr>
              <a:t>Soft reference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(simbolinės nuorodos)– tai nuoroda į kintamojo vard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uorodų samprata glaudžiai siejama su UNIX’e naudojamais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soft link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hard link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Hard reference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galima sukurti ir į anoniminius masyvus ir funkcijas, objektų konstruktorius, failų kintamuos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ard referen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1989000"/>
          <a:ext cx="8686800" cy="4472280"/>
        </p:xfrm>
        <a:graphic>
          <a:graphicData uri="http://schemas.openxmlformats.org/drawingml/2006/table">
            <a:tbl>
              <a:tblPr/>
              <a:tblGrid>
                <a:gridCol w="1444680"/>
                <a:gridCol w="1920960"/>
                <a:gridCol w="5321160"/>
              </a:tblGrid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kūr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doj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entarai ir pastab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oroda kuriama naudojant simbolį </a:t>
                      </a:r>
                      <a:r>
                        <a:rPr b="1" lang="en-US" sz="18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\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rieš kintamąjį, į kurį daroma nuo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scalarref = \$foo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bar = $$scalarre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ntamojo 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fo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eikšmė priskiriama kintamajam 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b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arrayref = \@ARGV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push(@$arrayref, $filenam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e masyvo 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@ARG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rijungiama reikšmė iš kintamojo 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file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$arrayref[0] = "January"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syvo 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@ARG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irmajam elementui priskiriama reikšmė 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Janu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hashref = \%ENV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$hashref{"KEY"} = "VALUE"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ociatyviojo masyvo 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%EN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lementui su raktu 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KE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riskiriama reikšmė 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coderef = \&amp;handl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&amp;$coderef(1,2,3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škviečiama funkcija 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handl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u parametrais 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1,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$globref = \*</a:t>
                      </a: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STDOUT</a:t>
                      </a:r>
                      <a:r>
                        <a:rPr b="0" lang="lt-LT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print $globref "output\n"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šveda žodį </a:t>
                      </a:r>
                      <a:r>
                        <a:rPr b="0" lang="lt-LT" sz="1400" spc="-1" strike="noStrike">
                          <a:solidFill>
                            <a:srgbClr val="000088"/>
                          </a:solidFill>
                          <a:latin typeface="Arial Unicode MS"/>
                          <a:ea typeface="Times New Roman"/>
                        </a:rPr>
                        <a:t>output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u eilutės perkėlimu į failo deskriptorių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oniminiai konstruktori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niminiai konstruktoriai – tai nuorodos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 bevardžius masyvus, asociatyvinius masyvus ar funkci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niminio masyvo konstruktoriu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$arrayref = [1, 2, 'c' 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niminio asociatyvionio masyvo kontruktoriu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$hashref = { 'Adam' =&gt; 'Eve', 'Clyde' =&gt; 'Bonnie' 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i turime funkcij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urioje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uriamas anoniminis asoc. masyvas, nuoroda į jį graž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ub hashem { +{ @_ }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ub hashem { return { @_ }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nimin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ė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programė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ruktoriu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$coderef = sub { print "Boink!\n" 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tos nuoro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o PERL 5.0 yra palaikomas objektiškai orietuotas programavimas. Objektas kuriamas konstruktoriaus pagalba. Konstruktorius gražina nuorodą į objekt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ogramos kintamieji formuoja simbolių lenteles. PERL egzistuoja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ypeglob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kintamųjų tipas, kuris naudojamas kaip nuoroda į kintamąjį, turintį vienodą pavadinimą, bet skirtingą tip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scalar_ref = *a{SCALAR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array_ref = *a{ARRAY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hash_ref = *a{HASH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code_ref = *a{CODE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bolinės nuoro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7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ie skaliarinis kintamasis naudojamas </a:t>
            </a:r>
            <a:r>
              <a:rPr b="0" lang="lt-LT" sz="2400" spc="-1" strike="noStrike">
                <a:solidFill>
                  <a:srgbClr val="00007d"/>
                </a:solidFill>
                <a:latin typeface="Arial"/>
              </a:rPr>
              <a:t>nuorodos kontekste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, į jį sukurima </a:t>
            </a: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simbolinė nuoroda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name = "bam"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$name = 1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Sukuriamas $bam su reikšm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{$name} = 2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$bam reikšmė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{$name x 2} = 3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Sukurimas $bambam su reikšm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name-&gt;[0] = 4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Sukuriamas masyv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$bam[0]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kiant apriboti simbolin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orod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audojim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ą naudojama direkty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use strict ‘ref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uorod</a:t>
            </a:r>
            <a:r>
              <a:rPr b="0" lang="lt-LT" sz="4200" spc="-1" strike="noStrike">
                <a:solidFill>
                  <a:srgbClr val="000000"/>
                </a:solidFill>
                <a:latin typeface="Arial"/>
              </a:rPr>
              <a:t>ų taikymas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– dvimatis masyv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Dvimatis masyva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laikomas masyvas, kurio elementai masyv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gl. - </a:t>
            </a:r>
            <a:r>
              <a:rPr b="0" i="1" lang="lt-LT" sz="1600" spc="-1" strike="noStrike">
                <a:solidFill>
                  <a:srgbClr val="000000"/>
                </a:solidFill>
                <a:latin typeface="Arial"/>
              </a:rPr>
              <a:t>array of array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@array = ( [ "fred", "barney" ]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[ "george", "jane", "elroy" ]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[ "homer", "marge", "bart" ], 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rint $array [2] [2];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# prints "bart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or $i (1..10) {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or $i (1..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my @list = somefunc($i);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{ $LoL[$i] = [ somefunc($i) ]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$LoL[$i] = \@list; 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7d"/>
                </a:solidFill>
                <a:latin typeface="Arial"/>
              </a:rPr>
              <a:t>Priskir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$LoL[$i] = [ @list ];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# safest, sometimes fas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$LoL[$i] = \@list; 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# fast but risky, depends on my-ness of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@{ $LoL[$i] } = @list;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oo tricky for most 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syvų asociatyvinis masyv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600" spc="-1" strike="noStrike">
                <a:solidFill>
                  <a:srgbClr val="000000"/>
                </a:solidFill>
                <a:latin typeface="Arial"/>
              </a:rPr>
              <a:t>Angl. - hash of array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ociatyvinio masyvo elementai gali būti masyvai, kurie yra pasiekiami per raktų reikšmes. Pvz. kalendor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HoL = ( flintstones =&gt; [ "fred", "barney" ]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jetsons =&gt; [ "george", "jane", "elroy" ]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impsons =&gt; [ "homer", "marge", "bart" ],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7d"/>
                </a:solidFill>
                <a:latin typeface="Arial"/>
              </a:rPr>
              <a:t>Priskir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HoL{$who} = [ @fields 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ush @{ $HoL{flintstones} },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1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",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2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"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soc.masyv</a:t>
            </a:r>
            <a:r>
              <a:rPr b="0" lang="lt-LT" sz="4200" spc="-1" strike="noStrike">
                <a:solidFill>
                  <a:srgbClr val="000000"/>
                </a:solidFill>
                <a:latin typeface="Arial"/>
              </a:rPr>
              <a:t>ų masyv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600" spc="-1" strike="noStrike">
                <a:solidFill>
                  <a:srgbClr val="000000"/>
                </a:solidFill>
                <a:latin typeface="Arial"/>
              </a:rPr>
              <a:t>Angl. – array of hash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oc.masyv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ų masyvas naudojamas, kai reikia sukurti įrašų seką, pasiekiamą nuosekli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@LoH = ( { lead =&gt; "fred", friend =&gt; "barney", 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{ lead =&gt; "george", wife =&gt; "jane", son =&gt; "elroy", 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{ lead =&gt; "homer", wife =&gt; "marge", son =&gt; "bart", }, 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7d"/>
                </a:solidFill>
                <a:latin typeface="Arial"/>
              </a:rPr>
              <a:t>Priskir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ush @LoH, { %fields 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$LoH[0]{pet} = "dino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$LoH[2]{pet} = "santa's little helper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while (&lt;&gt;) { push @LoH, { parsepairs($_) 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oc.masyvų asoc.masy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675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gl. – hashes of has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HoH = ( flintstones =&gt; { lead =&gt; "fred", pal =&gt; "barney", 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sons =&gt; { lead =&gt; "george", wife =&gt; "jane", "his boy" =&gt; "elroy", },  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7d"/>
                </a:solidFill>
                <a:latin typeface="Arial"/>
              </a:rPr>
              <a:t>Priskir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 &lt;&gt;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next unless s/^(.*?):\s*//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who = $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rec 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HoH{$who} = $re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$field ( spli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$key, $value) = split /=/, $fiel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rec-&gt;{$key} = $value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ew_folks = ( wife =&gt; "wilma", pet =&gt; "dino"; 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$what (keys %new_fo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$HoH{flintstones}{$what} = $new_folks{$what}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5640" y="3230640"/>
            <a:ext cx="514836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$group ( "simpsons", "jetsons", "flintstones"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%members = get_family($group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HoH{$group} = { %members 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ilų paieška kataloguo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ailų paieškai pagal tam tikrą filtrą, naudojami šablona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uriuose dažnai sutinkamas simbolis * , pv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/etc/host*   /home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USER/[a-m]*.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e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kos rezultatas gali būti priskirtas masyvui a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kaliariniam kintama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a = &lt;/etc/host*&gt;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a = glob("/etc/host*"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kcija glob() – gr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žina failus su išplėti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while ($nextname = &lt;/etc/host*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{ print "one of the files is $nextname\n"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t-LT" sz="4200" spc="-1" strike="noStrike">
                <a:solidFill>
                  <a:srgbClr val="000000"/>
                </a:solidFill>
                <a:latin typeface="Arial"/>
              </a:rPr>
              <a:t>eikšmių gavim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am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ųjų į kuriuos padarytos nuorodos reikšmės gaun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a  = $$scalar_re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f = &amp;$sub_re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b = @$array_re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“ $$d[0] \n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c  = %$hash_ref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“ $$h{“one”} \n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i nuoroda yra masyvo elementas, tuomet naudojami {}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@d = (1, \$b, \$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nt "$d[0] ${$d[1]} ${$d[2]} 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šiai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${$h{“one”}}    # gaunama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kaliar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k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šmė iš asoc. Masy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{&amp;f()}[1]         # funkcija – tai nuoroda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syv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ą ir išvedamas 2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 masyvo elem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t-LT" sz="4200" spc="-1" strike="noStrike">
                <a:solidFill>
                  <a:srgbClr val="000000"/>
                </a:solidFill>
                <a:latin typeface="Arial"/>
              </a:rPr>
              <a:t>eikšmių gavim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asyvų masy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a = (\@b, \@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{$a[0]} [1] = 17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#masyvo b antram elmentui priskiriama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a[1]-&gt;[0] = 10;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#masyvo c pirmam elmentui priskiriama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a[1][1] = 11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#masyvo c pirmam elmentui priskiriama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. masyv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y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\%b, \%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{$h[0]} {“one”} = 1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#masyvo b elmentui su raktu “one” priskiriam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h[1]-&gt;{“one”} = 1;        #masyvo c elmentui su raktu “one” priskiriam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a[1]{“key”} = 2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#masyvo c elmentui su raktu “key” priskiriam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t-LT" sz="4200" spc="-1" strike="noStrike">
                <a:solidFill>
                  <a:srgbClr val="000000"/>
                </a:solidFill>
                <a:latin typeface="Arial"/>
              </a:rPr>
              <a:t>eikšmių gavim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asyvų asociatyvinis masy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HoL{flintstones}[0] = "Fred"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HoL{flintstones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] =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ney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oc.masyvų asoc.masy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HoH{flintstones}{wife} = "wilma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HoH{flintstones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{wife} = "wilma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yv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HoL ir %HoH apr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mai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teikti ankstesnėse skaidrė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atalogų skaitym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šiai kaip failus, katalogus galima atidaryti skaitym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opendi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dir_handle, “directory”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closedi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dir_handle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readdi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dir_handle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dir(ETC,"/etc") || die "no etc?: $!"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$name = readdir(ETC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rint "$name\n"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ir(ETC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3789360"/>
            <a:ext cx="4140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dir(ETC,"/etc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ach $name (sort readdir(ETC)) { print "$name\n";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ir(ETC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tos funkcijos k</a:t>
            </a:r>
            <a:r>
              <a:rPr b="0" lang="lt-LT" sz="4200" spc="-1" strike="noStrike">
                <a:solidFill>
                  <a:srgbClr val="000000"/>
                </a:solidFill>
                <a:latin typeface="Arial"/>
              </a:rPr>
              <a:t>atalog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ms</a:t>
            </a:r>
            <a:r>
              <a:rPr b="0" lang="lt-LT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telldi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ir_hand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nusako einamąjį readdir funkcijos įrašą katalogo kintamajame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 dir_handle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seekdi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ir_hand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keičia einamąjį readdir funkcijos įrašą katalogo kintamajame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 dir_han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rewinddi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ir_hand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keičia einamąjį readdir funkcijos įrašą į katalogo kintamajojo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ir_handle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pradži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7d"/>
                </a:solidFill>
                <a:latin typeface="Arial"/>
              </a:rPr>
              <a:t>rmdi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“dir_name”) - trina katalogą, nurodytą parametruose arba kintamajame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$_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eiksmai su faila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507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un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file_name”) – ištrina failą, gražina ištrintų failų skaiči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nk (“first.txt","second.txt");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štrina du fai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nk &lt;*.o&gt;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as pats kaip "rm *.o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ach $file (&lt;*.o&gt;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unlink($file) || print “Problemos trinant $file: $!"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r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name_old”, “name_new”) – pervardina failą, graž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i failas buvo pervardint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yšia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name_1”, “name_2”) – sukuria kietą ryšį. Tas pa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p UNIX’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&gt;ln name_1 name_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sym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name_1”, “name_2”) – sukuria minkštą ryšį. 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s, kaip UNIX’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&gt;ln –s name_1 name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read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link_name”) – grąžina failo pavadinimą į kurį padarytas ryš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$x = readlink("neighbor"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print "neighbor nurodo į failą '$x'\n"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itos funkcij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7d"/>
                </a:solidFill>
                <a:latin typeface="Arial"/>
              </a:rPr>
              <a:t>mkdir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“dir_name”, permissions) – sukuria katalogą, su atitinkamomis teisė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mkdir(“testas”, 0754) || die “Sukurti katalogo neįmanoma..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7d"/>
                </a:solidFill>
                <a:latin typeface="Arial"/>
              </a:rPr>
              <a:t>rmdir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“dir_name”) – ištrina katalog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mdir(“testas”) || die “Ngaliu ištrinti katalogo..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7d"/>
                </a:solidFill>
                <a:latin typeface="Arial"/>
              </a:rPr>
              <a:t>chmod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permissions, “file_name”) – keičia failo ar katalo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7d"/>
                </a:solidFill>
                <a:latin typeface="Arial"/>
              </a:rPr>
              <a:t>chown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UID,GID, “file_name”) – keičia failo ar katalo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avininką 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grup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chown(1234, 35, “vienas", “du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7d"/>
                </a:solidFill>
                <a:latin typeface="Arial"/>
              </a:rPr>
              <a:t>umask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(teisių kaukė) – keičia arba parodo teisių kaukę naujai sukuriamiems failams ar katalog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ilo laiko modifikavim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640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ai bei katalogai turi tris laiko žy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ikas, kada failas paskutinį kartą buvo naudotas (last access ti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kutinio modifikavimo laik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ikas, kada paskutinį kartą buvo keistas i-n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iko atskaita vykdoma nuo 1970 sausio 1d. Sekundė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– grąžina sisteminį laiką, sekundėm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u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ime,mtime,”filename”) – keičia failo paskut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iekimo (access) ir modifikavimo laik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when = time( ) + 20*60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20 min + dabar utime($when,$when,"max_headroom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51:36Z</dcterms:created>
  <dc:creator>Dalius</dc:creator>
  <dc:description/>
  <dc:language>en-US</dc:language>
  <cp:lastModifiedBy>Dalius</cp:lastModifiedBy>
  <dcterms:modified xsi:type="dcterms:W3CDTF">2003-04-24T13:30:50Z</dcterms:modified>
  <cp:revision>46</cp:revision>
  <dc:subject/>
  <dc:title>PERL programavimas</dc:title>
</cp:coreProperties>
</file>