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BA47-F1C9-42DF-AC5B-63F92EE4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7DB0-9FB0-4430-94BF-BABC34BA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93F4-AD44-47BD-BAA5-DA67E879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1C7B-F679-45E4-A978-01E4DA10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AAA7-BAAA-4597-B6FC-612D06FB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B4A9-405F-4EAF-A3C8-1154B4AF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2429-D93E-4C3F-9978-84475ED5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3E1A-E601-4ED5-B16A-9E43F1EE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D3B6-C9C7-4674-94C0-B35FA4B9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C9E3-46F3-4DA0-926A-13A14C36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428B-CB34-43FC-A221-3AA105E3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78AF-0EDC-4F1E-8FDC-E0B55098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CF5F-A513-424F-BF91-26119B0A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0334-E9FC-483B-BC15-3A399884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D8AA-C674-48EE-ABD5-F1E87E71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4B68-24D0-4837-B623-DA6F3770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3A0F-2900-4531-883C-F9549FDF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CA5D-67F1-43C5-8BE7-ED6AC479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519A-7D44-47D8-B0B8-EEA34557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5A01-C44A-499D-BB19-E9B63E94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D9FE-01E0-4596-9C5D-88F1E84B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B495-82D9-4FB3-860D-5B7509F4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BDD0-025F-424B-AD1B-52DC4EA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CC41-A061-4F62-AE1C-7DC1223F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DE0E-3747-417F-AECC-B4BB274AF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D521-9454-44A7-B976-BE305F5DC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PERL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programavim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unkcij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400" spc="-1" strike="noStrike">
                <a:solidFill>
                  <a:srgbClr val="000000"/>
                </a:solidFill>
                <a:latin typeface="Arial"/>
              </a:rPr>
              <a:t>Faila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400" spc="-1" strike="noStrike">
                <a:solidFill>
                  <a:srgbClr val="000000"/>
                </a:solidFill>
                <a:latin typeface="Arial"/>
              </a:rPr>
              <a:t>Formata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cija apie fail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7473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udojamos f-jos stat, lstat (link’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mas=stat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failo kintamasi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mas=stat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išraišk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@mas=st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 (…) =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$dev,$ino,$mode,$nlink,$uid,$gid,$rdev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size,$atime,$mtime,$ctime,$blksize,$block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vyzd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$uid, $gid) = (stat("/etc/passwd"))[4,5];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ai – tai  šablonai, pagal kuriuos formatuojamos ataska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ą sudaro antraštė (stulpelių pavadinimai, žymės, pagalbinis tekstas) ir išvedamų duomenų dal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int naudoti formatą, reik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brėžti format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statyti duomenis, kurie bus spausdinami lauku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škviesti formatą vykdym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o nustaty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o apibrėžim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format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pavadinima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]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formato_teksta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mato_teks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ideda iš eilučių, aprašančių, kaip atrodys formatas, bei kur bus įterpiamos reikšmės eilučių, kuriose duodamas sąrašas reikšmių, kurias reikia įterp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 kiekvienos vaizdą aprašančios eilutės, turinčios įterpti reikšmę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ūti reikšmes aprašanti eilut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o pavyzd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060280"/>
            <a:ext cx="82296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ADDRESSLABEL = ==============================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@&lt;&lt;&lt;&lt;&lt;&lt;&lt;&lt;&lt;&lt;&lt;&lt;&lt;&lt;&lt;&lt;&lt;&lt;&lt;&lt;&lt;&lt;&lt;&lt;&lt;&lt; |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@&lt;&lt;&lt;&lt;&lt;&lt;&lt;&lt;&lt;&lt;&lt;&lt;&lt;&lt;&lt;&lt;&lt;&lt;&lt;&lt;&lt;&lt;&lt;&lt;&lt;&lt; | $add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@&lt;&lt;&lt;&lt;&lt;&lt;&lt;&lt;&lt;&lt;&lt;&lt;&lt;&lt;&lt;&lt;, @&lt; @&lt;&lt;&lt;&lt; |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city, $state, $zip ==============================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lučių formatav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nurodo paprastos reikšmės viet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- eilutės dalinimą tvarkantis simb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 nurodo, kiek užims reikšmė. Tekstas lygiuojamas pagal kairįjį  krašt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- nurodo, kiek užims reikšmė, tekstas centruoja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 nurodo, kiek užims reikšmė, tekstas lygiuojamas pagal dešinįjį krašt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@##.##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skaičių išvedimo forma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išvedimas pakeičiamas į tarpą; nurodo, kad stogeliu aprašytų eilučių nereikia išvedinėti, jei eilutė yra tušč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~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švedimas pakeičiama į tarpą; nurodo, kad eilutę reikia išvedinėti tol, kol visos įstatomis reikšmės taps tušč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o pavyzd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(ADDRESSLABEL,"&gt;form.txt") || die "can't create"; open (ADDRESSES,"adresai") || die "cannot open"; while (&lt;ADDRESSES&gt;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cho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name,$address,$city,$state,$zip) = split(/:/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(ADDRESSLABEL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raštės formatu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21348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o antraštės yra formatuojamos panašiai kaip ir tekstas. Antraštės formato pavadinimas paprastai siejamas su failo kintamuoju ir vadinamas su _TOP gale, pv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resas _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ADDRESSLABEL_TO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Addresses -- Page @&l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cijos (paprogram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ės)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subname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statement_1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statement_2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statement_3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r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ramės talpinamos bet kurioje programos vieto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programės apibrėžiamos kaip globalios funkcij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programės kintamieji yra globalū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vyzdys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666699"/>
                </a:solidFill>
                <a:latin typeface="Arial"/>
              </a:rPr>
              <a:t>sub say_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lt-LT" sz="2400" spc="-1" strike="noStrike">
                <a:solidFill>
                  <a:srgbClr val="666699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666699"/>
                </a:solidFill>
                <a:latin typeface="Arial"/>
              </a:rPr>
              <a:t>{ print "hello, $what\n";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cijos (paprogram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ės)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507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Funkcijos iškvieči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ay_hello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say_hello;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$a = 3 + say_hello();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for ( $x = start_value();  $x &lt; end_value();  $x += incr()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Arial"/>
              </a:rPr>
              <a:t>Grąžinama reikšm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ikšmė gražinama su </a:t>
            </a:r>
            <a:r>
              <a:rPr b="0" i="1" lang="lt-LT" sz="2200" spc="-1" strike="noStrike">
                <a:solidFill>
                  <a:srgbClr val="ff0000"/>
                </a:solidFill>
                <a:latin typeface="Arial"/>
              </a:rPr>
              <a:t>return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arba tai paskutinė išraiška paprogramė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ub su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{ return $a + $b; 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{ return($a,$b)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 = 5; $b = 6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$a = 5; $b = 6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c = suma(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@c = list(); # @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gu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(5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cijos (paprogram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ės)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ument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ment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i paprogramei perduodami per spec.kintamaj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s yra lokalus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funkcijos kintam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vyzdys: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ub add_tw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{ return $_[0] + $_[1]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rint add_two(3,4); # prints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$c = add_two(5,6); # $c gets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b add { $sum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foreach $_ (@_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{ $sum += $_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eturn $sum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cijos (paprogram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ės)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Lokalūs kintamie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Lokalūs funkcijos kintamieji apibrėžiami operatoriais local() arba my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ub add { my($sum)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;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oreach $_ (@_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{ $sum += $_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return $sum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b bigger_than { my($n,@value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$n,@values) = @_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my(@resul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foreach $_ (@valu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{ if ($_ &gt; $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{ push(@result,$_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}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eturn @result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400536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id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n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PERL programą standartiškai atidaromi STDIN, STDOUT, STDERR kanal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ailai atidaromi: </a:t>
            </a:r>
            <a:r>
              <a:rPr b="0" lang="lt-LT" sz="2400" spc="-1" strike="noStrike">
                <a:solidFill>
                  <a:srgbClr val="00007d"/>
                </a:solidFill>
                <a:latin typeface="Arial"/>
              </a:rPr>
              <a:t>open (FILEHANDLE,”failo pavadinim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ėžima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&gt;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r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šym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&gt;&gt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papildy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&lt;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kaitymu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&gt;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skaitymui ir ra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m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aila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ždaromi: close</a:t>
            </a:r>
            <a:r>
              <a:rPr b="0" lang="lt-LT" sz="2400" spc="-1" strike="noStrike">
                <a:solidFill>
                  <a:srgbClr val="00007d"/>
                </a:solidFill>
                <a:latin typeface="Arial"/>
              </a:rPr>
              <a:t>(FILEHAND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epasisekus atidaryti failo, galima naudoti operatorių </a:t>
            </a:r>
            <a:r>
              <a:rPr b="0" lang="lt-LT" sz="2000" spc="-1" strike="noStrike">
                <a:solidFill>
                  <a:srgbClr val="00007d"/>
                </a:solidFill>
                <a:latin typeface="Arial"/>
              </a:rPr>
              <a:t>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unless (open DATAPLACE,"&gt;/tmp/dataplace"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{ die "Sorry, I couldn't create /tmp/dataplace\n";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Nuskaitymas iš fai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open (EP,"/etc/passwd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while (&lt;EP&gt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{ cho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rint "I saw $_ in the password file!\n"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Išvedimas į fail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rint LOGFILE "Finished item $n of $max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rint STDOUT "hi, world!\n"; # like print "hi, world!\n"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7d"/>
                </a:solidFill>
                <a:latin typeface="Arial"/>
              </a:rPr>
              <a:t>print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failo_kintamasi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sąraša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7d"/>
                </a:solidFill>
                <a:latin typeface="Arial"/>
              </a:rPr>
              <a:t>read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failo_kintamasi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skaliara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il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7d"/>
                </a:solidFill>
                <a:latin typeface="Arial"/>
              </a:rPr>
              <a:t>printf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failo_kintamasis  formatas, sąraš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7d"/>
                </a:solidFill>
                <a:latin typeface="Arial"/>
              </a:rPr>
              <a:t>seek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failo_kintamasis, pozicija, atska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7d"/>
                </a:solidFill>
                <a:latin typeface="Arial"/>
              </a:rPr>
              <a:t>rename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senas_vardas, naujas_var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77336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l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ų tikrinimo operatori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351640" cy="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2232000"/>
          <a:ext cx="8229600" cy="4543560"/>
        </p:xfrm>
        <a:graphic>
          <a:graphicData uri="http://schemas.openxmlformats.org/drawingml/2006/table">
            <a:tbl>
              <a:tblPr/>
              <a:tblGrid>
                <a:gridCol w="887400"/>
                <a:gridCol w="734220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is re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is wri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is exec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is owned by u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is readable by real user, not effective user (differs fro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 setuid progra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is writable by real user, not effective user (differs fro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 setuid progra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is executable by real user, not effective user (differs fro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x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 setuid progra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is owned by real user, not effective user (differs fro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 setuid progra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ex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exists and has zero size (directories are never emp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50920" y="170028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ė</a:t>
            </a:r>
            <a:r>
              <a:rPr b="1" lang="lt-LT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raidė</a:t>
            </a:r>
            <a:r>
              <a:rPr b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failo kintamasi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 (rezultatas priklauso nuo to kaip aprašytas </a:t>
            </a:r>
            <a:r>
              <a:rPr b="0" i="1" lang="lt-LT" sz="1600" spc="-1" strike="noStrike">
                <a:solidFill>
                  <a:srgbClr val="000000"/>
                </a:solidFill>
                <a:latin typeface="Arial"/>
              </a:rPr>
              <a:t>failo kintam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95280" y="620640"/>
          <a:ext cx="8229600" cy="5903640"/>
        </p:xfrm>
        <a:graphic>
          <a:graphicData uri="http://schemas.openxmlformats.org/drawingml/2006/table">
            <a:tbl>
              <a:tblPr/>
              <a:tblGrid>
                <a:gridCol w="547560"/>
                <a:gridCol w="7682040"/>
              </a:tblGrid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exists and has nonzero size (the value is the size in by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y is a plain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y is a direc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y is a syml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y is a soc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y is a named pipe (a "fifo"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y is a block-special file (like a mountable dis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y is a character-special file (like an I/O devi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is setu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is setg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or directory has the sticky bit 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atty(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n the filehandle is 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is "text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e is "binary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ification age in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s age in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81040"/>
                          <a:tab algn="l" pos="1163520"/>
                          <a:tab algn="l" pos="1744560"/>
                          <a:tab algn="l" pos="2327400"/>
                          <a:tab algn="l" pos="2908440"/>
                          <a:tab algn="l" pos="3489480"/>
                          <a:tab algn="l" pos="4071960"/>
                          <a:tab algn="l" pos="4653000"/>
                          <a:tab algn="l" pos="5235480"/>
                          <a:tab algn="l" pos="5816520"/>
                          <a:tab algn="l" pos="6397560"/>
                          <a:tab algn="l" pos="6980400"/>
                          <a:tab algn="l" pos="7561440"/>
                          <a:tab algn="l" pos="81439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-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ode-modification age in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51:36Z</dcterms:created>
  <dc:creator>Dalius</dc:creator>
  <dc:description/>
  <dc:language>en-US</dc:language>
  <cp:lastModifiedBy>Dalius</cp:lastModifiedBy>
  <dcterms:modified xsi:type="dcterms:W3CDTF">2003-04-02T09:27:12Z</dcterms:modified>
  <cp:revision>21</cp:revision>
  <dc:subject/>
  <dc:title>PERL programavimas</dc:title>
</cp:coreProperties>
</file>