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BFB9D-D1BA-4C93-905B-F5B74D481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1F44C-7F95-40B8-BD3B-956A51246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5A7A8-8A66-4BDE-81EE-414405415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6FD61-FC6A-4D16-ADD9-E3B67181F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25C76-FC96-4F1F-A6AB-092B3F661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7F6B1-7738-447B-81DA-BE8FB1B64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177D1-7FA2-4294-89D4-3B3C4C754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9EBF6-45C2-44C5-9D36-6EDCFC7BC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096DA-B1DB-4B02-9BB1-FF8726555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B0E89-66AA-493A-91CA-208F0CD27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BAF91-8C63-4AD1-B6EE-690123FC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9C638-73A8-4DFD-B48A-B4109732C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DD5A4-F456-4A8A-B2B2-83B9499A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E9D4B-EB14-4E18-A3B7-45147D6D7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B16DD-E086-4C72-ACE0-4D2B5D589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918F2-733B-4022-8BB2-5C5666DB8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04159-F57F-4383-8BB6-D81DABB84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79252-8792-43DD-B436-DE9D225F7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83AAF-884D-4633-9303-197E5DB1E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958AC-0BCC-4198-A1B9-BCF7B5D87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52C4A-B6F5-475F-A73D-7DCA2E029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87780-A695-43F4-A2C5-A7DA2568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96530-4BA8-4B1E-84C0-634A239AC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1D292-0F99-4049-86DE-B239362B3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31F9C-E3AF-48A6-8785-6152CBE71D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F3D3C-9B57-4BA9-B1BA-0C2099D2C4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PERL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 programavima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21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Masyva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Valdymo struktūr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Basic I/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Reguliarios išraišk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ąlygos sakin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l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ali būti kaip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ifikatoriai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kiny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ąlyg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kiny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less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ąlyg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udojant || (arba),  &amp;&amp; (ir)  ?  :  operatorius taip pat galima nurodyti, kada vykdyti ar nevykdyti sakinio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kinys1 || sakinys2 || ... || sakinys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kinys1 &amp;&amp; sakinys2 &amp;&amp; ... &amp;&amp; sakinys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kinys1 ?  sakinys2 : sakinys3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8360" y="1773360"/>
            <a:ext cx="835164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kl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8360" y="1773360"/>
            <a:ext cx="835164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03640" y="4292640"/>
            <a:ext cx="30970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a = &lt;STDIN&gt;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mp($a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a &gt; 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print " $a \n"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a --;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140360" y="4149720"/>
            <a:ext cx="24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979640" y="2060640"/>
          <a:ext cx="6192000" cy="1952280"/>
        </p:xfrm>
        <a:graphic>
          <a:graphicData uri="http://schemas.openxmlformats.org/drawingml/2006/table">
            <a:tbl>
              <a:tblPr/>
              <a:tblGrid>
                <a:gridCol w="6192000"/>
              </a:tblGrid>
              <a:tr h="487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hile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išraiška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bloka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til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išraiška ) blok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r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išraiška1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;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išraiška2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;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išraiška3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bloka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reach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kintamasis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išraiška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bloka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1116000" y="47973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vyzd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kl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7139160" cy="13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pasako, kad tai yra paskutinė ciklo itera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sako, kad ciklo blokas su šia reikšme jau yra įvykdytas ir reikia pereiti prie sekančios reikšmė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d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sako, kad ciklo bloką reikia dar kartą įvykdyti su dabar esančiomis kintamųjų reikšmėm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1773360"/>
            <a:ext cx="835164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4000" y="3332160"/>
            <a:ext cx="266364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meth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meth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meth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mecondi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methingoroth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methingoroth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s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orething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orething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st comes he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35280" y="3357720"/>
            <a:ext cx="2665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meth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meth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meth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mecondi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methingoroth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methingoroth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orething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orething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 comes he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56360" y="3357720"/>
            <a:ext cx="2665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meth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#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o come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meth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meth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mecondi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methingoroth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methingoroth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o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orething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orething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 comes he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Žymės ciklų bloku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692360" y="3141360"/>
            <a:ext cx="59054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ER: for ($i = 1; $i &lt;= 10; $i++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 INNER: for ($j = 1; $j &lt;= 10; $j++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 if ($i * $j == 63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 print "$i times $j is 63!\n"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st OUTER; }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($j &gt;= $i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 next OUTER; }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8360" y="1773360"/>
            <a:ext cx="835164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9640" y="1989000"/>
            <a:ext cx="813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m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kad b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ū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alima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šokinėti nuo vieno ciklo bloko prie kito, naudojamos blokų žymė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vyzdys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ociatyviniai masyvai (hash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pibrėžiam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i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%var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Priskyrimas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%asoc = ('vienas', 1, 'du', 2, 'daug', 3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%asoc = ('vienas'=&gt; 1, 'du'=&gt; 2, 'daug'=&gt; 3);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syvo narys pasiekiamas taip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$x = $asoc{'daug'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Raktų p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ami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@keys = keys(%aso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Reikšmės pasiekiamos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@values = values(%aso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Elemento sunaikinimas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delete(%asoc{‘vienas'}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each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acoc) – funkcija, gražinanti raktą ir reikšm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1773360"/>
            <a:ext cx="835164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&lt;STDIN&gt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$a = &lt;STDIN&gt;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@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a = &lt;STDIN&gt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while (&lt;STDIN&gt;) { # like "while(defined($_ = &lt;STDIN&gt;)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{" chomp; # like "chomp($_)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# other operations with $_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$_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- paskutinės skaliarinės operacijos rezultat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@_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- paskutinės masyvinės operacijos rezultatas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1773360"/>
            <a:ext cx="835164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4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lt-L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- 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šiai, kaip STDIN skaito iš standartinio įvedimo bei papildomai ir iš visų failų, nurodytų komandinėje eilutėje (tiksliau tų, kurie liko standartiniame masyve @ARGV prieš pirmąjį kreipinį į &lt;&gt;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&lt;&gt; skaliariniame kontekste skaito vieną eilutę; masyvo kontekste  į masyvą surašo visas likusias eilutes iki end-of-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&lt;&gt; veikia panašiai kaip UNIX komanda </a:t>
            </a:r>
            <a:r>
              <a:rPr b="0" i="1" lang="lt-LT" sz="2400" spc="-1" strike="noStrike">
                <a:solidFill>
                  <a:srgbClr val="000000"/>
                </a:solidFill>
                <a:latin typeface="Arial"/>
              </a:rPr>
              <a:t>cat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@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ARGV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yv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ą gali suformuoti ir pats vartotoj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1773360"/>
            <a:ext cx="835164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D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3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r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rint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8360" y="1773360"/>
            <a:ext cx="835164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00000" y="3500280"/>
            <a:ext cx="75596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vyzdžiu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t ((2+3),"hello"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tf ("%15s %5d %10.2f\n", $s, $n, $r) 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uliarios išraišk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uliari išraiška – tai šablonas, kurio atitikmens ieškoma eilutėj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uliarias išraiškas naudoja grep, awk, sed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uliari išraiška rašoma  /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_išraišk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vyzdys:     while (&lt;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 if (/abc/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 print $_;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68360" y="1773360"/>
            <a:ext cx="835164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sikartojimai reg.išraišk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Žemiau išvardinti simboliai pasako, kad prieš juos buvusi reguliarioji išraiška gali pasitaikyti eilutėje tam tikrą kiekį kart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kartoti 0 ir daugiau kart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kartoti 1 ir daugiau kart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kartoti 1 arba 0 kart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n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kartoti tikslia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kart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n,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kartot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r daugiau kart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n,m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kartotji ben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bet ne daugiau kaip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kart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vyzdžiui /ab*c/  /abc+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8360" y="1773360"/>
            <a:ext cx="835164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syv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Masyvas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– sunumeruotas skaliarinių duomenų saraš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Konstantų masy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500" spc="-1" strike="noStrike">
                <a:solidFill>
                  <a:srgbClr val="000000"/>
                </a:solidFill>
                <a:latin typeface="Arial"/>
              </a:rPr>
              <a:t>(1,2,3)             </a:t>
            </a:r>
            <a:r>
              <a:rPr b="0" lang="lt-LT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500" spc="-1" strike="noStrike">
                <a:solidFill>
                  <a:srgbClr val="000000"/>
                </a:solidFill>
                <a:latin typeface="Arial"/>
              </a:rPr>
              <a:t># konstantų masyvas,  1, 2, 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500" spc="-1" strike="noStrike">
                <a:solidFill>
                  <a:srgbClr val="000000"/>
                </a:solidFill>
                <a:latin typeface="Arial"/>
              </a:rPr>
              <a:t>("fred",4.5)      </a:t>
            </a:r>
            <a:r>
              <a:rPr b="0" lang="lt-LT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500" spc="-1" strike="noStrike">
                <a:solidFill>
                  <a:srgbClr val="000000"/>
                </a:solidFill>
                <a:latin typeface="Arial"/>
              </a:rPr>
              <a:t># konstantų masyvas, "fred"  ir 4.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500" spc="-1" strike="noStrike">
                <a:solidFill>
                  <a:srgbClr val="000000"/>
                </a:solidFill>
                <a:latin typeface="Arial"/>
              </a:rPr>
              <a:t>($a,17);           </a:t>
            </a:r>
            <a:r>
              <a:rPr b="0" lang="lt-LT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500" spc="-1" strike="noStrike">
                <a:solidFill>
                  <a:srgbClr val="000000"/>
                </a:solidFill>
                <a:latin typeface="Arial"/>
              </a:rPr>
              <a:t># masyvas:  $a  ir 17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500" spc="-1" strike="noStrike">
                <a:solidFill>
                  <a:srgbClr val="000000"/>
                </a:solidFill>
                <a:latin typeface="Arial"/>
              </a:rPr>
              <a:t>($b+$c,$d+$e) </a:t>
            </a:r>
            <a:r>
              <a:rPr b="0" lang="lt-LT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500" spc="-1" strike="noStrike">
                <a:solidFill>
                  <a:srgbClr val="000000"/>
                </a:solidFill>
                <a:latin typeface="Arial"/>
              </a:rPr>
              <a:t># masyva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500" spc="-1" strike="noStrike">
                <a:solidFill>
                  <a:srgbClr val="000000"/>
                </a:solidFill>
                <a:latin typeface="Arial"/>
              </a:rPr>
              <a:t>()                  </a:t>
            </a:r>
            <a:r>
              <a:rPr b="0" lang="lt-LT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# tu</a:t>
            </a:r>
            <a:r>
              <a:rPr b="0" lang="lt-LT" sz="2500" spc="-1" strike="noStrike">
                <a:solidFill>
                  <a:srgbClr val="000000"/>
                </a:solidFill>
                <a:latin typeface="Arial"/>
              </a:rPr>
              <a:t>ščias masyva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500" spc="-1" strike="noStrike">
                <a:solidFill>
                  <a:srgbClr val="000000"/>
                </a:solidFill>
                <a:latin typeface="Arial"/>
              </a:rPr>
              <a:t>(1 .. 5)</a:t>
            </a:r>
            <a:r>
              <a:rPr b="0" lang="lt-LT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5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lt-LT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500" spc="-1" strike="noStrike">
                <a:solidFill>
                  <a:srgbClr val="000000"/>
                </a:solidFill>
                <a:latin typeface="Arial"/>
              </a:rPr>
              <a:t># same as (1, 2, 3, 4, 5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500" spc="-1" strike="noStrike">
                <a:solidFill>
                  <a:srgbClr val="000000"/>
                </a:solidFill>
                <a:latin typeface="Arial"/>
              </a:rPr>
              <a:t>(1.2 .. 5.2) </a:t>
            </a:r>
            <a:r>
              <a:rPr b="0" lang="lt-LT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500" spc="-1" strike="noStrike">
                <a:solidFill>
                  <a:srgbClr val="000000"/>
                </a:solidFill>
                <a:latin typeface="Arial"/>
              </a:rPr>
              <a:t># same as (1.2, 2.2, 3.2, 4.2, 5.2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500" spc="-1" strike="noStrike">
                <a:solidFill>
                  <a:srgbClr val="000000"/>
                </a:solidFill>
                <a:latin typeface="Arial"/>
              </a:rPr>
              <a:t>(2 .. 6,10,12) </a:t>
            </a:r>
            <a:r>
              <a:rPr b="0" lang="lt-LT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500" spc="-1" strike="noStrike">
                <a:solidFill>
                  <a:srgbClr val="000000"/>
                </a:solidFill>
                <a:latin typeface="Arial"/>
              </a:rPr>
              <a:t># same as (2, 3, 4, 5, 6, 10, 12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500" spc="-1" strike="noStrike">
                <a:solidFill>
                  <a:srgbClr val="000000"/>
                </a:solidFill>
                <a:latin typeface="Arial"/>
              </a:rPr>
              <a:t>(1.3 .. 6.1) </a:t>
            </a:r>
            <a:r>
              <a:rPr b="0" lang="lt-LT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500" spc="-1" strike="noStrike">
                <a:solidFill>
                  <a:srgbClr val="000000"/>
                </a:solidFill>
                <a:latin typeface="Arial"/>
              </a:rPr>
              <a:t># same as (1.3, 2.3, 3.3, 4.3, 5.3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8360" y="1773360"/>
            <a:ext cx="835164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Šablon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68360" y="1773360"/>
            <a:ext cx="835164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30120" y="2671200"/>
            <a:ext cx="848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defined Character Class Abbrevi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330120" y="3038400"/>
          <a:ext cx="8634600" cy="2633760"/>
        </p:xfrm>
        <a:graphic>
          <a:graphicData uri="http://schemas.openxmlformats.org/drawingml/2006/table">
            <a:tbl>
              <a:tblPr/>
              <a:tblGrid>
                <a:gridCol w="1312920"/>
                <a:gridCol w="2090880"/>
                <a:gridCol w="2315880"/>
                <a:gridCol w="2914920"/>
              </a:tblGrid>
              <a:tr h="78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valent 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ed Constru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valent Negated 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\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a digi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[0-9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\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digits, not!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[^0-9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\w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word cha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[a-zA-Z0-9_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\W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words, not!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[^a-zA-Z0-9_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\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space cha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[ \r\t\n\f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\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pace, not!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[^ \r\t\n\f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"/>
          <p:cNvSpPr/>
          <p:nvPr/>
        </p:nvSpPr>
        <p:spPr>
          <a:xfrm>
            <a:off x="684360" y="1916280"/>
            <a:ext cx="49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” bet koks simbolis, išskyrus \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akeitimo operatorius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sintaks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0000"/>
                </a:solidFill>
                <a:latin typeface="Arial"/>
              </a:rPr>
              <a:t>s/</a:t>
            </a:r>
            <a:r>
              <a:rPr b="0" i="1" lang="lt-LT" sz="2400" spc="-1" strike="noStrike">
                <a:solidFill>
                  <a:srgbClr val="ff0000"/>
                </a:solidFill>
                <a:latin typeface="Arial"/>
              </a:rPr>
              <a:t>šablonas</a:t>
            </a:r>
            <a:r>
              <a:rPr b="0" lang="lt-LT" sz="2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0" i="1" lang="lt-LT" sz="2400" spc="-1" strike="noStrike">
                <a:solidFill>
                  <a:srgbClr val="ff0000"/>
                </a:solidFill>
                <a:latin typeface="Arial"/>
              </a:rPr>
              <a:t>pakaitalas</a:t>
            </a:r>
            <a:r>
              <a:rPr b="0" lang="lt-LT" sz="2400" spc="-1" strike="noStrike">
                <a:solidFill>
                  <a:srgbClr val="ff0000"/>
                </a:solidFill>
                <a:latin typeface="Arial"/>
              </a:rPr>
              <a:t>/ [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lt-LT" sz="2400" spc="-1" strike="noStrike">
                <a:solidFill>
                  <a:srgbClr val="ff0000"/>
                </a:solidFill>
                <a:latin typeface="Arial"/>
              </a:rPr>
              <a:t>] [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lt-LT" sz="2400" spc="-1" strike="noStrike">
                <a:solidFill>
                  <a:srgbClr val="ff0000"/>
                </a:solidFill>
                <a:latin typeface="Arial"/>
              </a:rPr>
              <a:t>] [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0" lang="lt-LT" sz="2400" spc="-1" strike="noStrike">
                <a:solidFill>
                  <a:srgbClr val="ff0000"/>
                </a:solidFill>
                <a:latin typeface="Arial"/>
              </a:rPr>
              <a:t>] [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]</a:t>
            </a:r>
            <a:r>
              <a:rPr b="0" lang="lt-LT" sz="2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modifikatorius </a:t>
            </a:r>
            <a:r>
              <a:rPr b="1" lang="lt-LT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 nurodo, kad paieška turi būti vykdoma neatsižvelgiant į raidžių reigistr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modifikatorius </a:t>
            </a:r>
            <a:r>
              <a:rPr b="1" lang="lt-LT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 nurodo, kad visi kintamieji, kurie yra naudojami šablone būtų "įstatomi" pirma kartą vykdant program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modifikatorius </a:t>
            </a:r>
            <a:r>
              <a:rPr b="1" lang="lt-LT" sz="2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 nurodo, kad reikia surasti argumente </a:t>
            </a:r>
            <a:r>
              <a:rPr b="0" i="1" lang="lt-LT" sz="2200" spc="-1" strike="noStrike">
                <a:solidFill>
                  <a:srgbClr val="000000"/>
                </a:solidFill>
                <a:latin typeface="Arial"/>
              </a:rPr>
              <a:t>visus</a:t>
            </a: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 šabloną atitinkačius teksto fragmentus. Skaliariniame kontekste raktas dirbtų kaip iteratoriu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modifikatorius </a:t>
            </a:r>
            <a:r>
              <a:rPr b="1" lang="lt-LT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 nurodo, kad rastą tekstą reikia keisti </a:t>
            </a:r>
            <a:r>
              <a:rPr b="0" i="1" lang="lt-LT" sz="2200" spc="-1" strike="noStrike">
                <a:solidFill>
                  <a:srgbClr val="000000"/>
                </a:solidFill>
                <a:latin typeface="Arial"/>
              </a:rPr>
              <a:t>pakaitale</a:t>
            </a: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 esančios išraiškos rezultatu, o ne literaliai ten esančiu tekst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Pavyzdžiui:   s/ab*c/def/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8360" y="1773360"/>
            <a:ext cx="835164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ti šablon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/fred(.)barney\1/;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 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fredxbarney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/a(.*)b\1c/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#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FREDbFRED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|b|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 a arba b arba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/fred\b/; # matches fred, but not frederic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/\bmo/; # matches moe and mole, but not El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/\bFred\b/; # matches Fred but not Frederick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/\b\+\b/; # matches "x+y" but not "++" or " + 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bc\bdef/; # never match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8360" y="1773360"/>
            <a:ext cx="835164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Arial"/>
              </a:rPr>
              <a:t>=~ Operato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us</a:t>
            </a:r>
            <a:r>
              <a:rPr b="0" lang="lt-L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orius =~ skirtas palyginti kintamojo reik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ę su reguliaria išraiška arba arba atlikti pakeitimus naudojant pakeitimo operatorių. Pv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rint “Dar klausite ? "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if (&lt;STDIN&gt; =~ /^[y]/i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{print “Saunu ....\n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/^[y]/i  išraiškoje i – ignoruoja didžiasias ir mažasias ra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8360" y="1773360"/>
            <a:ext cx="835164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lit()   join (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plit() sudalina eilutę į laukus, pagal laukų atskyrimo šabloną. Pv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@fields = split(/:/,$eilute);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 padalina eilut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aukus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. Atskirimo simboli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join() sujungia laukus į eilutę, naudodamas sujungimo simbol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$bigstring = join($glue,@list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avyzdys: $outline = join(":", @field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$output = join ("\n", @data, ""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$result = join ("+", "", @fields)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68360" y="1773360"/>
            <a:ext cx="835164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syv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867564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Kintamųjų masy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@fred 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ntam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sy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@array = ("fred","barney","betty","wilma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@array = qw(fred barney betty wilm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@fred = (1,2,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@bob = @f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@barney = (4,5,@fred,6,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@barney = (@barney,"last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($a,$b,$c) = (1,2,3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@fred = (4,5,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($a,$b) = ($b,$a)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$a = @fred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# $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masyvo ilg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($d,@fred) = ($a,$b,$c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($a) = @fred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# $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pirmas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ele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($e,@fred) = @fred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8360" y="1773360"/>
            <a:ext cx="835164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syv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syvo element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$b = $fred[0]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$c = $fred[1]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$fred[2]++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$fred[1] += 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@fred[0,1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@fred[0,1] = @fred[1,0]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@fred[0,1,2] = @fred[1,1,1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@who = (qw(fred barney betty wilma))[2,3]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8360" y="1773360"/>
            <a:ext cx="835164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syv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6868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$#fre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paskutinio masyvo elmento indek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$fred[-1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paskutinis masyvo elmen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Masyvo keitimas (iš dešinės)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push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(@mylist,$newvalue);  # @mylist = (@mylist,$new) $oldvalue = </a:t>
            </a: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pop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(@mylist);  #  pašalina paskutinį element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Masyvo keitimas (iš kairės)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unshift (@fred,2,3,4);  # pridedama 2 3 4  (2,3,4,5,6,7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$x = shift(@fred);        # naikinamas 2 ir priskiriama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syvo element</a:t>
            </a: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ų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eiliškum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iti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@b = reverse(@a)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#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bar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@b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(9,8,7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@b = reverse(7,8,9)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8360" y="1773360"/>
            <a:ext cx="835164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syv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686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Masyvo elementų rūšiavi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@x = sort("small","medium","large");  # @x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"large","medium","small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@y = (1,2,4,8,16,32,64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@y = sort(@y)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# @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(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1,16,2,32,4,64,8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skutinio simbolio naukini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chomp(@stuff)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naikina \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p(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@stuff)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naikina visus p. sim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STDIN&gt; – kaip masy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@a = &lt;STDIN&gt;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baiga Ctrl+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8360" y="1773360"/>
            <a:ext cx="835164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ontrolinė išraiš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iškinys PERL interpretuojamas kaip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kai jo reikšmė lygi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; “0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''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'0'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os kitos reikšmės yra interpretuojamos kaip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8360" y="1773360"/>
            <a:ext cx="835164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ąlygos sakin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362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kiniai grupuojami į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okus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skliaudžian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 }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alis gali kartotis tiek kartų, kiek reikia, arba jos gali nebūti iš viso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alis yra nebūtin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tveju, blokas1 yra vykdomas tik tada, kai sąlygos reikšmė yra false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alys yra nagrinėjamos tik tuo atveju, jei blokas1 yra nevykdom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8360" y="1773360"/>
            <a:ext cx="835164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11280" y="2924280"/>
          <a:ext cx="7930800" cy="1079640"/>
        </p:xfrm>
        <a:graphic>
          <a:graphicData uri="http://schemas.openxmlformats.org/drawingml/2006/table">
            <a:tbl>
              <a:tblPr/>
              <a:tblGrid>
                <a:gridCol w="3661560"/>
                <a:gridCol w="4269240"/>
              </a:tblGrid>
              <a:tr h="1079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if 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sąlyga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 blok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[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elsif 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sąlyga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 blokas ]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...[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else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blokas 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unless 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sąlyga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 blokas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[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elsif 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sąlyga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 blokas2 ]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...[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else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blokasN 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ąlygos sakinys (pvz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84000" y="2420640"/>
            <a:ext cx="620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"how old are you? 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a = &lt;STDIN&gt;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mp($a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$a &lt; 18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print "So, you're not old enough to vote, eh?\n";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 { print "Old enough! Cool! So go vote!\n"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voter++; 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8360" y="1773360"/>
            <a:ext cx="835164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7T14:51:36Z</dcterms:created>
  <dc:creator>Dalius</dc:creator>
  <dc:description/>
  <dc:language>en-US</dc:language>
  <cp:lastModifiedBy>Dalius</cp:lastModifiedBy>
  <dcterms:modified xsi:type="dcterms:W3CDTF">2003-04-01T10:53:30Z</dcterms:modified>
  <cp:revision>12</cp:revision>
  <dc:subject/>
  <dc:title>PERL programavimas</dc:title>
</cp:coreProperties>
</file>