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6333-55F7-4237-9790-C2237A76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285B-9A64-4423-A7D4-6A63E109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1063-390C-4385-9E9A-C7FA37FA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B098-D7A1-41A9-AF11-B2646D6C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F89C-C8FE-4146-BAE3-2C620F74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B8F8-D8AC-4B86-A4DA-7CC85F63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2395-EEB9-4E49-BA62-92391E33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C590-7ABC-4D2C-9639-8167AABC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551D-C7D7-49D4-84D4-6C65A6ED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7EA2-D173-451A-ADDB-76879995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1410-F0F7-4FB6-9955-4D27636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811F-C9C3-404C-B25E-1AD653E9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79C9-2BF3-47D8-873B-E7FE79B2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F8D1-0792-473D-B8B8-FEC7CA26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72F2-465A-495D-9405-C063CE3B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CB36-B35A-4E37-BD7E-E0ACA5D8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F12D-0362-429C-ACF0-FE241A8C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1F9B-C434-46C0-9A78-AC8A2BC5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2836-0C27-458C-AFCE-42E9D102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5D77-C8B7-4F36-AB44-702E0C32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5050-4DA7-4EFE-A940-BE013013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1182-FCEB-427B-971E-F8564FD6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A536-000A-4456-99C6-18054B23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4A3F-7233-4CAF-8DD4-9100D84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6FFE-E48D-45E0-A172-0141EB744F9A}" type="slidenum">
              <a:rPr b="0" lang="lt-L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D0FB-42B7-47FB-B041-A1D6D249BC64}" type="slidenum">
              <a:rPr b="0" lang="lt-L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erl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PERL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programavim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tyvin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syvas arb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%words = qw( fred camel barney llama betty alpaca wilma alpaca );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%words 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f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came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barne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bett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alpac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wil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alpac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$words{"betty"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ik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ė alp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if ($name =~ /^Randal/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if ($name =~ /^randal\b/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$name =~ s/\W.*//;  (ištrina eilutės dal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$name =~ tr/A-Z/a-z/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b good_word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local($somename,$someguess) = @_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somename =~ s/\W.*//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somename =~ tr/A-Z/a-z/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f  ($somename eq "randal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 return 1; # return value is true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lsif (($words{$somename} || "groucho") eq $somegue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 return 1; # return value is true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l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 return 0; # return value is false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programės iškvietim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good_word($name,$gu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kanal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IN   STDOUT    STDE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b init_words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pen (WORDSLIST, "wordslist"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while ($name = &lt;WORDSLIST&gt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{ chomp ($name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$word = &lt;WORDSLIST&gt;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homp ($word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$words{$name} = $word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lose (WORDSLIST)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MAIL,"|mai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DDRESS_HERE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rint MAIL "bad news: $somename guessed $someguess\n"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close MAI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(“command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b init_words 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while ( $filename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*.secr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{ open (WORDSLIST, $filenam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f (-M WORDSLIST &lt; 7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{ while ($name = &lt;WORDSLIST&gt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{ chomp $nam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$word = &lt;WORDSLIST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homp $wor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$words{$name} = $word; }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lose (WORDSLIS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ormat STDOUT_TO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ge @&lt;&l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ilen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================ ========== ============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ormat STDOU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@&lt;&lt;&lt;&lt;&lt;&lt;&lt;&lt;&lt;&lt;&lt;&lt;&lt;&lt;&lt; @&lt;&lt;&lt;&lt;&lt;&lt;&lt;&lt;&lt; @&lt;&lt;&lt;&lt;&lt;&lt;&lt;&lt;&lt;&lt;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filename, $name, $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kaliara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konstant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sveikas skaičius ($pazymys = 10;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realus skaičius ($pi = 3.14;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mokslinė notacija ($milijardas = 1e9;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eilutė ($it = 'dėstytuvas';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interpretuojama eilutė ($warnig = "Dėmesio! $it !\n";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omanda ($cwd = `pwd`;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eilutė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'hello'  - ne eilut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"hello world\n"  - eilut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\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w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\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\t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\f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f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\b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ack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\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\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Veiksm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2 + 3 # 2 plus 3, o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5.1 - 2.4 # 5.1 minus 2.4, or approximately 2.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3 * 12 # 3 times 12 = 3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4 / 2 # 14 divided by 2, or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10.2 / 0.3 # 10.2 divided by 0.3, or approximately 3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10 / 3 # always floating point divide, so approximately 3.3333333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** - kelimas laipsn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“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ctical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xtraction and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port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nguag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"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hologically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lectic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bbish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s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utorius – Larry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ersija v 5.8 (6.0-nest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rl platinamas su GNU Public Lic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RL – interpretat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RL - kompiliat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iksm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kana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10.5 % 3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s pat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10 %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lu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čių sujungimas (konketinaci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"hello" . "world" # same as "helloworl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'hello world' . "\n" # same as "hello world\n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ilučių kartojimo operatorius </a:t>
            </a:r>
            <a:r>
              <a:rPr b="1" i="1" lang="lt-LT" sz="2800" spc="-1" strike="noStrike">
                <a:solidFill>
                  <a:srgbClr val="9999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"fred" x 3  # is  "fredfredfre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(3+2) x 4 #   is  "5555"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Operatori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79440" y="2205000"/>
          <a:ext cx="8458920" cy="3906360"/>
        </p:xfrm>
        <a:graphic>
          <a:graphicData uri="http://schemas.openxmlformats.org/drawingml/2006/table">
            <a:tbl>
              <a:tblPr/>
              <a:tblGrid>
                <a:gridCol w="4645800"/>
                <a:gridCol w="2136960"/>
                <a:gridCol w="1676160"/>
              </a:tblGrid>
              <a:tr h="488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eq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!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ater 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than or equal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ater than or equal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0"/>
          <a:ext cx="8229600" cy="6826320"/>
        </p:xfrm>
        <a:graphic>
          <a:graphicData uri="http://schemas.openxmlformats.org/drawingml/2006/table">
            <a:tbl>
              <a:tblPr/>
              <a:tblGrid>
                <a:gridCol w="1571760"/>
                <a:gridCol w="6657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ocia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"list" operators (leftwar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&gt;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method call, derefere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associ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utoincrement, autodecre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*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exponenti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!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~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\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logical not, bit-not, reference operator, unary plus, unary minu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~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!~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matches, doesn't mat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/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multiply, divide, modulus, string replic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dd, subtract, string concaten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lt; &gt;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associ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d unary operators (lik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om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associ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&gt; &lt;= &gt;= lt gt le 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associ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 != &lt;=&gt; eq ne c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bit-a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^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bit-or, bit-x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logical a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logical 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associ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 ..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oninclusive and inclusive ran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?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if-then-el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=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=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=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etc. (assignment and binary-assign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&gt;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comma and comma-arro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associ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 operators (rightwar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logical n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logical a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logical or, logical x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Kintamie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$va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skaliarinė reikšmė (sveikas skaičius, realus skaičius arba eilutė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@va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reikšmė - masyvas, kurio indeksai - sveiki skaiči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%va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reikšmė - masyvas, kurio indeksai - eilutės. A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ociatyvusis masyv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&amp;va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kreipinys į funkciją (ampersendas gali būti praleistas, jei nekyla konfliktų su kitais vardais ir/arba raktiniais žodžia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*va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nuor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Litera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ndal Schwartz, Tom Christiansen “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earning PERL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O’reilly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arry Wall, Tom Christiansen &amp; Randal L. Schwartz “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ogramming PERL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O’reilly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riram Srinivasan “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dvanced PERL programmin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O’reilly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ndal L. Schwartz, Erik Olson &amp; Tom Christiansen “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earning PERL on Win32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O’reilly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t-LT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perl.com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L palei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per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lename.pl   (i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ė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ai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 .pl .p .b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chmod u+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lenam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perlcc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filename.pl (būtinas plėtin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GA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 –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&gt;perl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2636640"/>
            <a:ext cx="5761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#!/usr/bin/perl -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rint ("Hello, world!\n"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23640" y="2349000"/>
            <a:ext cx="66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#!/usr/bin/perl -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rint "What is your name? 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$name = &lt;STDIN&gt;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chomp ($nam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rint "Hello, $name!\n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#!/usr/bin/pe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nt "What is your name? "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$name = &lt;STDIN&gt;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homp ($name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f ($name eq "Randal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{ print "Hello, Randal! How good of you to be here!\n";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{ print "Hello, $name!\n"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# ordinary greeting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#!/usr/bin/perl -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secretword = "llama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name = &lt;STDIN&gt;;  chomp $nam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f ($name eq "Randal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 print "Hello, Randal! How good of you to be here!\n"; } e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 print "Hello, $name!\n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nt "What is the secret word? 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guess = &lt;STDIN&gt;; chomp ($gues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while ($guess ne $secretwor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 print "Wrong, try again. What is the secret word?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guess = &lt;STDIN&gt;;  chomp ($guess); }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ERL pavyzdžiai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@words = qw(camel llama alpa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@words = (“camel”, “llama”, “alpaca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i = 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correct = "maybe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while ($correct eq "maybe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if ($words[$i] eq $gue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 $correct = "yes"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lsif ($i &lt; 2) { $i = $i + 1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lse {print "Wrong, try again. What is the secret word?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guess = &lt;STDIN&gt;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chomp ($gues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$i = 0; 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700280"/>
            <a:ext cx="83520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0:47:26Z</dcterms:created>
  <dc:creator>Dalius</dc:creator>
  <dc:description/>
  <dc:language>en-US</dc:language>
  <cp:lastModifiedBy>Dalius</cp:lastModifiedBy>
  <dcterms:modified xsi:type="dcterms:W3CDTF">2003-03-17T15:40:03Z</dcterms:modified>
  <cp:revision>11</cp:revision>
  <dc:subject/>
  <dc:title>PERL programavi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